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ADE34-B5F2-4A48-A5E1-EFDC6A40D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6A2BA-CB19-46A3-BD1A-5758D6148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B85B1-7918-4D3A-8295-863A5CE01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E3C1B-D889-4CF3-8279-72CC7813C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887B5-0137-4D17-BCDE-8BA253A6B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6448A-94A5-4D2F-8E34-184C224E6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A2125-DD44-49D8-A4F7-4A8DD9911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9CEC5-0646-4CF3-8ED9-304A9C496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91BEB-95B7-4F17-89E1-D6A71969D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D8C28-3312-4C92-B3EA-AC3CC25EB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6D9EF-11C7-4988-A942-0731CAEBC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67660-00CC-4F0A-89F4-F77F1085F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7B6D2-18A6-41A0-AA37-8C702BD0B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A8C48-661B-40F8-A085-5973F2C83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44BCD-8C05-422A-BB92-BA09A2B26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F4385-6953-4F7B-A872-0062D3C85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AC7DE-3691-446A-9C68-C8C417F65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F0AF6-278B-4D22-B034-4F291188C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DF961-40A8-4EAC-A12D-F712441A2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69AA7-FF47-4C44-9844-C055CDA04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C21BA-0835-400B-8D44-F4B0403A5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F4A16-C7B0-4879-A956-4B3407ACE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32384-3608-406D-921E-9F3771F76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302B6-CE9E-4ABF-87E0-3EFCCF692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BBACB-E0C4-46E5-AA77-D0AC708E1D2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87F55-D1E0-42FF-9400-616D1451FF0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averyschools.net/164310219153730280/lib/164310219153730280/Picture3.png&amp;imgrefurl=http://www.averyschools.net/164310219153730280/&amp;usg=__gp9aqqwAKaaPxcwGfCqg2_tZT-U=&amp;h=295&amp;w=700&amp;sz=7&amp;hl=en&amp;start=77&amp;um=1&amp;itbs=1&amp;tbnid=mn8z8d_PhnfxNM:&amp;tbnh=59&amp;tbnw=140&amp;prev=/images%3Fq%3Dcontinuum%2Bof%2Bspecial%2Beducation%2Bservices%26ndsp%3D20%26hl%3Den%26safe%3Dactive%26sa%3DN%26start%3D60%26um%3D1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video.google.com/videoplay?docid=8893323604894846060&amp;hl=en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Comic Sans MS"/>
              </a:rPr>
              <a:t>Session 2:</a:t>
            </a:r>
            <a:br>
              <a:rPr sz="4800"/>
            </a:br>
            <a:r>
              <a:rPr b="0" lang="en-US" sz="4800" spc="-1" strike="noStrike">
                <a:solidFill>
                  <a:srgbClr val="333399"/>
                </a:solidFill>
                <a:latin typeface="Comic Sans MS"/>
              </a:rPr>
              <a:t>Understanding Inclusion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95880" y="5397480"/>
            <a:ext cx="2705400" cy="11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e4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"/>
          <p:cNvGrpSpPr/>
          <p:nvPr/>
        </p:nvGrpSpPr>
        <p:grpSpPr>
          <a:xfrm>
            <a:off x="351000" y="2431080"/>
            <a:ext cx="8439120" cy="1919160"/>
            <a:chOff x="351000" y="2431080"/>
            <a:chExt cx="8439120" cy="1919160"/>
          </a:xfrm>
        </p:grpSpPr>
        <p:sp>
          <p:nvSpPr>
            <p:cNvPr id="125" name="_s17419"/>
            <p:cNvSpPr/>
            <p:nvPr/>
          </p:nvSpPr>
          <p:spPr>
            <a:xfrm>
              <a:off x="4317120" y="2431080"/>
              <a:ext cx="2130120" cy="1919160"/>
            </a:xfrm>
            <a:prstGeom prst="ellipse">
              <a:avLst/>
            </a:prstGeom>
            <a:solidFill>
              <a:srgbClr val="1c1c1c">
                <a:alpha val="50000"/>
              </a:srgbClr>
            </a:solidFill>
            <a:ln w="5724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_s17420"/>
            <p:cNvSpPr/>
            <p:nvPr/>
          </p:nvSpPr>
          <p:spPr>
            <a:xfrm>
              <a:off x="6660360" y="3151080"/>
              <a:ext cx="2129760" cy="47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Section 504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_s17421"/>
            <p:cNvSpPr/>
            <p:nvPr/>
          </p:nvSpPr>
          <p:spPr>
            <a:xfrm>
              <a:off x="2694240" y="2431080"/>
              <a:ext cx="2129760" cy="1919160"/>
            </a:xfrm>
            <a:prstGeom prst="ellipse">
              <a:avLst/>
            </a:prstGeom>
            <a:solidFill>
              <a:srgbClr val="3333cc">
                <a:alpha val="50000"/>
              </a:srgbClr>
            </a:solidFill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_s17422"/>
            <p:cNvSpPr/>
            <p:nvPr/>
          </p:nvSpPr>
          <p:spPr>
            <a:xfrm>
              <a:off x="351000" y="3151080"/>
              <a:ext cx="2130120" cy="47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IDEA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“</a:t>
            </a:r>
            <a:r>
              <a:rPr b="0" lang="en-US" sz="4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Including Samuel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”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Question for Reflection as you view the video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Samuel’s teacher in an inclusive classroom, what concerns would you have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mpact of Inclusion on Students 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with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Disabiliti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cademic Performan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mproved standardized test scores, reading performance, mastery of IEP goals, grades, on-task behavior, motivation, and att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Social Performance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action with typically developing peers --- some characterize their experience by fear, frustration, ridicule and isolation while others speak about friendships, intellectual challenges, self-esteem, and su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mpact of Inclusion on Others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act on Student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withou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isabi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ademic ---- equal or better performance than those not educated in inclusion classroom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act on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Educato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itu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act on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Famil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itu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earning Pyrami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6" name="" descr="learning_pyramid.jpg"/>
          <p:cNvPicPr/>
          <p:nvPr/>
        </p:nvPicPr>
        <p:blipFill>
          <a:blip r:embed="rId1"/>
          <a:srcRect l="0" t="10449" r="0" b="0"/>
          <a:stretch/>
        </p:blipFill>
        <p:spPr>
          <a:xfrm>
            <a:off x="1066680" y="1674720"/>
            <a:ext cx="746784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flec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your child had a disability, would you prefer a general education or special education setting?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your child did not have a disability, which class would you prefer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or next class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spond to the previous questions on the blog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will be focusing on the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IEP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next class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1" name="" descr="Pictures of Super Bowl 2010 tickets on sale now for Feb. 7, 2010!!!"/>
          <p:cNvPicPr/>
          <p:nvPr/>
        </p:nvPicPr>
        <p:blipFill>
          <a:blip r:embed="rId1"/>
          <a:stretch/>
        </p:blipFill>
        <p:spPr>
          <a:xfrm>
            <a:off x="2819520" y="3886200"/>
            <a:ext cx="5715000" cy="25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P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Free Appropriate Public Education (FAPE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s what all children in the U.S. are entitled to under the Individuals with Disabilities Education Act (IDEA)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 does "appropriate" mean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's important to note that "appropriate" does not mean "best," nor does it mean "appropriate to the school district's plans for this year."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law requires that this FAPE take place in the Least Restrictive Environment (LR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Least Restrictive Environment (LR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some kids, this will mean full inclu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other kids, a self-contained classroom may in fact be less restrictive and more appropriate. 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"appropriate" --- interpretations must be individualized to the needs of the child, not the needs of the school or the needs of the distri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vement to I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institution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rly Intervention (EI) and Early Childhood Progra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chnological Advan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vil Rights Movement and Resulting Litig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vocacy 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regated Nature of Special Schools and Cla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proportionate Represen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ducational Re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Laws that Shape Special Educ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 94-142: Education for All Handicapped Children Act (197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 99-457: Education for All Handicapped Children Act Amendments (198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a provision for the early years (E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 101-476(IDEA): Individuals with </a:t>
            </a:r>
            <a:r>
              <a:rPr b="0" lang="en-US" sz="2800" spc="-1" strike="noStrike">
                <a:solidFill>
                  <a:srgbClr val="ffcf01"/>
                </a:solidFill>
                <a:latin typeface="Tahoma"/>
              </a:rPr>
              <a:t>Disabiliti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Education Act (199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A Amendments of 199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A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04920" y="4267080"/>
            <a:ext cx="8381880" cy="2362320"/>
          </a:xfrm>
          <a:prstGeom prst="rect">
            <a:avLst/>
          </a:prstGeom>
          <a:solidFill>
            <a:srgbClr val="00e4a8">
              <a:alpha val="3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DE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06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A is organized in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fou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part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06520" indent="-50652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 A, General Provi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06520" indent="-50652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 B, Assistance for the Education of All Children with Disabilities (school age/preschool program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06520" indent="-50652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 C, Infants and Toddlers with Disab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06520" indent="-50652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 D, National Activities to Improve the Education of Children with Disabilities (support program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39686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DE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09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ll children with disabilities are entitled to services under IDEA, only those who are "eligible" under the specified disability catego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038120" y="-360"/>
            <a:ext cx="480060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829440" indent="-376920"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is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29440" indent="-376920"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af-Blind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29440" indent="-376920"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af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29440" indent="-376920"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motional Disturb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29440" indent="-376920"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aring Impair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29440" indent="-376920"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ntal Retard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29440" indent="-376920"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Disab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29440" indent="-376920"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thopedic Impair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29440" indent="-376920"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Health Impair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29440" indent="-376920"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ic Learning Dis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29440" indent="-376920"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or Language Impair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29440" indent="-376920"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umatic Brain Inju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29440" indent="-376920"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sual Impairment Including Blind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29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ection 504 of the Rehabilitation Act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tion 504 is less discriminatory: it prot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persons with a disability who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have a physical or mental impairment which substantially limits one or more major life activities; 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ve a record of such an impairment; or 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e regarded as having such an impairment. 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" name=""/>
          <p:cNvGrpSpPr/>
          <p:nvPr/>
        </p:nvGrpSpPr>
        <p:grpSpPr>
          <a:xfrm>
            <a:off x="3450240" y="1345320"/>
            <a:ext cx="4372560" cy="3771360"/>
            <a:chOff x="3450240" y="1345320"/>
            <a:chExt cx="4372560" cy="3771360"/>
          </a:xfrm>
        </p:grpSpPr>
        <p:sp>
          <p:nvSpPr>
            <p:cNvPr id="118" name="_s12298"/>
            <p:cNvSpPr/>
            <p:nvPr/>
          </p:nvSpPr>
          <p:spPr>
            <a:xfrm>
              <a:off x="3450240" y="2402280"/>
              <a:ext cx="2714040" cy="2714400"/>
            </a:xfrm>
            <a:prstGeom prst="donut">
              <a:avLst>
                <a:gd name="adj" fmla="val 16666"/>
              </a:avLst>
            </a:prstGeom>
            <a:solidFill>
              <a:srgbClr val="ff8c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_s12299"/>
            <p:cNvSpPr/>
            <p:nvPr/>
          </p:nvSpPr>
          <p:spPr>
            <a:xfrm>
              <a:off x="7099920" y="2552400"/>
              <a:ext cx="722880" cy="603000"/>
            </a:xfr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All Childre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_s12296"/>
            <p:cNvSpPr/>
            <p:nvPr/>
          </p:nvSpPr>
          <p:spPr>
            <a:xfrm>
              <a:off x="3902040" y="2854080"/>
              <a:ext cx="1809360" cy="1809720"/>
            </a:xfrm>
            <a:prstGeom prst="donut">
              <a:avLst>
                <a:gd name="adj" fmla="val 25000"/>
              </a:avLst>
            </a:prstGeom>
            <a:solidFill>
              <a:srgbClr val="01bd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_s12297"/>
            <p:cNvSpPr/>
            <p:nvPr/>
          </p:nvSpPr>
          <p:spPr>
            <a:xfrm>
              <a:off x="7099920" y="1948680"/>
              <a:ext cx="722880" cy="603360"/>
            </a:xfr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504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_s12294"/>
            <p:cNvSpPr/>
            <p:nvPr/>
          </p:nvSpPr>
          <p:spPr>
            <a:xfrm>
              <a:off x="4354920" y="3307320"/>
              <a:ext cx="904680" cy="9046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_s12295"/>
            <p:cNvSpPr/>
            <p:nvPr/>
          </p:nvSpPr>
          <p:spPr>
            <a:xfrm>
              <a:off x="7099920" y="1345320"/>
              <a:ext cx="722880" cy="603000"/>
            </a:xfr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IDEA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3T20:23:56Z</dcterms:created>
  <dc:creator>User</dc:creator>
  <dc:description/>
  <dc:language>en-US</dc:language>
  <cp:lastModifiedBy>User</cp:lastModifiedBy>
  <dcterms:modified xsi:type="dcterms:W3CDTF">2010-02-05T21:03:48Z</dcterms:modified>
  <cp:revision>6</cp:revision>
  <dc:subject/>
  <dc:title>Slide 1</dc:title>
</cp:coreProperties>
</file>